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5A5-E29E-44AA-AAF2-42376752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E22-119C-461B-8438-E09ECE6E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1B1-336A-4EAB-8AE5-1F4FA840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FBB-2A26-4B73-97BE-CAE6963F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2BE0-36EC-4C0B-AA8F-1ECFE9C6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8A7-028E-44D6-856A-5D51ED73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E087-10D8-4CFC-A371-35F35901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03A5-1D8A-43FA-BC43-A7F0BA5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85E-E578-436B-A78A-4AC10D1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92F2-5C89-479F-B0F4-DD937D86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0BA0-81EB-49F0-9F20-FF44EE8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B18-5258-497D-95BA-DA64791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5EA8-793E-4444-8D2A-DDBA27F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7EF2-1212-4969-ADAB-1C1D36F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CCF1-608F-4BD8-BA20-12D7BBBB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6840-F75D-4AF3-8517-86EBA6E6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F963-0C9E-46C2-AE66-066355BE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61A-53E6-4549-9829-6A8E58D6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B0D-EF98-4D60-BE15-D9C030C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998-9DCD-4CA8-A3DF-F950142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6F1-BA8D-4C8C-A1E2-369155B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488-E3BD-4F83-BF80-E8BF595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E15-D170-47AD-92AB-1DDDF60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F66-4F8F-4071-BF49-6911BBF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458-7F04-45CB-B89E-606E19284F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427-7920-4A0B-87AC-DD44C9E71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 to Metadata for Digital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ilyn Deega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fugee Studies Cent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versity of Oxfor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ive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information needed to manage the object in the 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tur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n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ive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rvation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item i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t is migrated to anothe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s and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ptive or intellectu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the metadata that gives users access to th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s to be acce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y te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manuscript, gives folio or shelf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very verb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ute descriptions of the object and it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ptive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include classification systems, controlled vocabularies and thesauri to help maintain consistency across the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need name authority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link to controlled iconographic systems such as ICON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show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www.bodley.ox.ac.u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metadat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bou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brary catalo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tional and electro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ve finding a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 catalo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eum catalo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in the digital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analogu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adata is held alongside or within obje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k title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adata tools have pointers to the obje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ues with shelf marks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in the digital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data is one of the critical issues in digital resourc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needed at all stages of the creation and management of a digital re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ization of metadata and protocols has been vital in the development of resources which can interope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in the digital wor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l-formed metadata is the only way to find objects in digital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engines based on the content are not sufficiently sub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, human-generated metadata is very expensive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done on cataloguing internet resources in Oxford--a cataloguer can deal with 3-4 resources per h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systems and sch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it is important to define what metadata needs to be recor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, a schema can be cho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the other way roun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sometimes there is no choice--if a schema is in place, then it might be necessary to work with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adata systems and sch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(too many!) metadata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 (all flavours), HTML, SGML, XML, TEI, EAD, Dublin Core, etc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, however, sometimes possible to map between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-TEI, CORC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given that systems are of different levels of complexity, info gets l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ti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 or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al meta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 collection of data, or a multi-part item fit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D (Encoded Archival Description) is very powerful for structural information as it allows an archive to be described by its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9:17:54Z</dcterms:created>
  <dc:creator>Marilyn Deegan</dc:creator>
  <dc:description/>
  <dc:language>en-US</dc:language>
  <cp:lastModifiedBy>Marilyn Deegan</cp:lastModifiedBy>
  <dcterms:modified xsi:type="dcterms:W3CDTF">2000-11-03T11:31:11Z</dcterms:modified>
  <cp:revision>6</cp:revision>
  <dc:subject/>
  <dc:title>Introduction to Metadata</dc:title>
</cp:coreProperties>
</file>